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F85-75EC-44FC-959E-9F886BB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2F8-3B36-4959-AC1B-59AF338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EF2-4FD6-4562-A2AC-5D7101D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02E-BEBB-4465-803D-CCB0BB78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DF1-4955-497E-81CD-A1579DE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BEE-900C-433E-81DF-6883569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508-BBD0-4483-9DB4-8F7ED99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209-B91C-4A12-8FA4-0B1A2C20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249-6D7F-48AA-8E4E-6151E01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653-C450-40EA-AAC6-163ED52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23C-19F8-4C26-AA47-E200070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944-C7EB-4F88-BD53-845AEDB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7FC-845B-4344-BB4F-470D698EB79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ǒu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43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3048120" y="220824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āo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712880" y="1600200"/>
            <a:ext cx="57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ú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3057480" y="1600200"/>
            <a:ext cx="302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ǎ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ī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ǎo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áng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Zhū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ā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uō shén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371600" y="1523880"/>
            <a:ext cx="5780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2819520" y="1523880"/>
            <a:ext cx="3743280" cy="43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iú shuō shénm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228564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宋体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宋体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ǎ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ī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ǎo shuō shén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2286000" y="205740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áng shuō shénm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124080" y="1752480"/>
            <a:ext cx="3122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Zhū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828800" y="1752480"/>
            <a:ext cx="549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ǒu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3048120" y="175248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27:02Z</dcterms:modified>
  <cp:revision>856</cp:revision>
  <dc:subject/>
  <dc:title>Gou3, GO fetch</dc:title>
</cp:coreProperties>
</file>